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DB5C-313E-4E44-9CE6-131BAFB54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DB76-82E2-4DB7-9786-004CECA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7BB3-9953-42DA-A72A-57BD371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807A-81CE-4CD8-83F4-94459F7A8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F855-E135-4BC2-B5AD-3712D8F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573D-297F-4994-8E31-D640C00C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2A88-51C1-4576-8A26-3524AEB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B347-50F8-418C-BF53-25DDB80B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DC25-65C2-4E0B-B06A-B7E9633A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8B92-27ED-4C44-B174-C0A448F5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74D4-B1B4-4E34-9E9E-BAA90AFE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9BEE-6559-4B1B-A07B-3AF84528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9046e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46e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9046e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4D73-9C35-4561-8D8E-A5127CDADB55}" type="slidenum">
              <a:rPr b="0" lang="en-US" sz="1000" spc="-1" strike="noStrike">
                <a:solidFill>
                  <a:srgbClr val="09046e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Honfy József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5a0f"/>
                </a:solidFill>
                <a:latin typeface="Arial"/>
              </a:rPr>
              <a:t>KÁBELTELEVÍZIÓS HÁLÓZATOK</a:t>
            </a:r>
            <a:endParaRPr b="1" lang="en-US" sz="36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DIGITÁLIS TECHNOLÓGIA A KÁBELTELEVÍZIÓS HÁLÓZATOKBAN</a:t>
            </a:r>
            <a:br>
              <a:rPr sz="1800"/>
            </a:b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5. HIBAJAVÍTÓ ELJÁRÁSOK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REED-SOLOMON hibajavító kódolás(5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Még egyszer összefoglalva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700280"/>
          <a:ext cx="849600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49600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755F-ADB5-4690-8A76-C40B77D98D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KONVOLÚCIÓS ÁTSZÖVÉS(1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907920"/>
          <a:ext cx="68407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68407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16000" y="4581360"/>
          <a:ext cx="6840720" cy="184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581360"/>
                    <a:ext cx="6840720" cy="18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4653-31E1-41D7-8E64-D553E43D00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89000"/>
          <a:ext cx="7993080" cy="59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9930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1A43-1188-4EFB-BC14-45ED38594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KONVOLÚCIÓS ÁTSZÖVÉS(3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765000"/>
          <a:ext cx="7850160" cy="556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65000"/>
                    <a:ext cx="7850160" cy="55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ED08-CCB9-457C-9A2B-24C7BEB21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KONVOLÚCIÓS ÁTSZÖVÉS(4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836640"/>
          <a:ext cx="756144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756144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1D51-24A9-4C00-BF54-F2BF3FD80D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KONVOLÚCIÓS ÁTSZÖVÉS(5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765000"/>
          <a:ext cx="439272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439272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211640" y="2924280"/>
          <a:ext cx="4932360" cy="36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924280"/>
                    <a:ext cx="4932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0109-5F79-46FF-A4FC-98D6E299E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W 415x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2421000"/>
          <a:ext cx="9144000" cy="24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144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F997-D496-40FD-B02D-A1469E6C86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55640" y="333360"/>
          <a:ext cx="7777080" cy="58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3360"/>
                    <a:ext cx="777708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A434-B1D0-4DBA-8D42-C5FE4834D3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55640" y="652320"/>
          <a:ext cx="7564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52320"/>
                    <a:ext cx="7564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8F1D-1ACD-4896-ABF8-5432B6943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bájtok átszövése 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064360" cy="18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A rendszerben fellépő hibacsomók elleni védelmet segíti a bájt átszövés. Az eljárás lényege, hogy a soros bitfolyamból két jelet, az I és Q jelet állítják elő, 64 QAM esetén mindegyiket 3-3 biten. A bájtokat először szimbólumokká alakítják, majd a szimbólumokból pedig I és Q jeleket. Három egymást követő bájt alkot négy egymást követő 6 bites szimbólumot, mint ahogy az ábra is mutatja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209080" cy="27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D0A1-CC73-4555-9BEE-B1F117C152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Gyakorlati hibajavító eljárások(1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AXIMÁLIS VALÓSZÍNŰSÉG detektor  (VITERBI dekóder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döntési rendszerre jellemző legvalószínűbb bitmintát keresi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mintákat RAM-ban tárolják (look-up táblák)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Általában a detektáló egység elején van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evés és véletlen előfordulású hiba feltárására és javítására alkalmas, más módszerekkel együtt hatásos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IRE KÓD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Ritkán előforduló, kisebb burst jellegű hibákra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ódoláskor kisszámú (16, 32) bitet fűz az eredeti adatblokkhoz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lőnye: ugyanaz az ellenőrző összeg (checksum) használható a hiba detektálására, illetve korlátozott számú hiba javítására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Egy 32 bites checksum pl, egy különálló. 11 bit hosszúságú burst hibát képes javítani,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gyszerű logikai áramkörökkel megvalósítható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4444-33CA-4154-8010-54AE7644C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55640" y="765000"/>
          <a:ext cx="741060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65000"/>
                    <a:ext cx="7410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8535-C184-4B48-9921-FD66A2421E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Differenciális kódoló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9046e"/>
                </a:solidFill>
                <a:latin typeface="Arial"/>
              </a:rPr>
              <a:t>A bájt szimbólum átalakító után következik a differenciális kódoló, amely a szimbólumok két legnagyobb helyi értékű bitjének / MSB / a differenciális kódolását végzi el. Ezzel biztosítható a 90º -os, fázisforgatás független QAM konstelláció, ami azt jelenti, hogy QAM modulációnál nem áll rendelkezésre referens fázis, így a fázisbizonytalanság 90 fok. Az MSB állapota nem egy fázisértéknek felel meg, hanem egy fázisváltozásna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DB1C-6030-40FB-B2BD-964D97F196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11280" y="260280"/>
          <a:ext cx="7848360" cy="59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784836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2616-6A86-4656-82BB-0FF98FFAA1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95280" y="189000"/>
          <a:ext cx="8209080" cy="60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20908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F2E6-5312-4EEE-AA24-E711CC1BFB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Gyakorlati hibajavító eljárások(2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RED-SOLOMON BLOKK KÓDOK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Nagysebességű kommunikációs és adattárolási alkalmazásokra kifejlesztett eljárás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Járulékos bájtok hozzáadásával a hibahelyek felismerhetővé és javíthatóvá válnak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Jellemzője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T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számú javítást végez egy 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 hosszúságú kódszóban, A T független a hiba elhelyezkedésétől,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DVB-x rendszerekre ajánlott változata: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e4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RS (204,188, T=8)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kódszó (packet) hossza 188 byte,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járulékos byte-ok száma 16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A javítható hibák száma 8 byte (T=8)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592E-920E-48B6-A55E-C60310F6E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Gyakorlati hibajavító eljárások(2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MMING kódok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Nagy átviteli sebességű rendszerekben használható. Ha rövid kódszavakat használnak és nagy RAM-mal rendelkezik a rendszer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ötött hosszúságú stringekben többszörös bithibákat is képes javítani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Általában nagy adatsebesség melletti egyszerű kódolás és dekódolás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CRC HIBAFELISMERÉSI MÓDSZER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Egy megfelelően választott generátorpolinommal történő osztás  maradékát (CHECKSUM) _általában 16, vagy 32 bit_ fűzik az átviendő adatokhoz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Ha a vételi oldalon végzett osztás maradéka eltérő az adóoldalitól, hiba van a vételben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hiba javítása ismétléssel történik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Kétirányú kommunikációs rendszerekben használják,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EC3D-C28B-4AA4-8747-47228998F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Gyakorlati hibajavító eljárások(4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INTERLEAVING (KÖZBESZÖVÉS)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Módszer a sűrűn előforduló hibák szétterítésére,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ezek a nagy számuk miatt az egyes kódszavakat már javíthatatlanná tennék,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Periódikus közbeszövés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Véletlen előfordulású. De egy tervezhető hossznál rövidebb burst hibák esetén alkalmazzák.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Álvéletlen közbeszövés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Bizonytalan hosszúságú és elhelyezkedésű jelkimaradások esetén ad jó megbízhatóságot. 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A853-9A43-47AE-92B0-7340201E2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59640" y="2924280"/>
            <a:ext cx="1944720" cy="21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REED-SOLOMON hibajavító kódolás(1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208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46e"/>
                </a:solidFill>
                <a:latin typeface="Arial"/>
              </a:rPr>
              <a:t>A HAMMING kódolás segít megérteni a REED-SOLOMON kódolás lényegét: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557360"/>
          <a:ext cx="41828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41828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643280" y="692280"/>
          <a:ext cx="403236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92280"/>
                    <a:ext cx="40323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643280" y="2708280"/>
          <a:ext cx="4032360" cy="36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08280"/>
                    <a:ext cx="40323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227640" y="3068640"/>
            <a:ext cx="237672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284640"/>
            <a:ext cx="86364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3284640"/>
            <a:ext cx="295272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3500280"/>
            <a:ext cx="230364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4AF7-F4F4-4593-9888-8128802CF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REED-SOLOMON hibajavító kódolás(2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03280" y="907920"/>
          <a:ext cx="67690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769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916360" y="1413000"/>
            <a:ext cx="129528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133720"/>
            <a:ext cx="3529080" cy="287280"/>
          </a:xfrm>
          <a:prstGeom prst="rect">
            <a:avLst/>
          </a:prstGeom>
          <a:noFill/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2708280"/>
            <a:ext cx="3529080" cy="289080"/>
          </a:xfrm>
          <a:prstGeom prst="rect">
            <a:avLst/>
          </a:prstGeom>
          <a:noFill/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4248360" cy="287280"/>
          </a:xfrm>
          <a:prstGeom prst="rect">
            <a:avLst/>
          </a:prstGeom>
          <a:noFill/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3933720"/>
            <a:ext cx="151308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365720"/>
            <a:ext cx="561672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4653000"/>
            <a:ext cx="2737080" cy="0"/>
          </a:xfrm>
          <a:prstGeom prst="line">
            <a:avLst/>
          </a:prstGeom>
          <a:ln w="2844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5084640"/>
            <a:ext cx="1511640" cy="0"/>
          </a:xfrm>
          <a:prstGeom prst="line">
            <a:avLst/>
          </a:prstGeom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084640"/>
            <a:ext cx="2664000" cy="0"/>
          </a:xfrm>
          <a:prstGeom prst="line">
            <a:avLst/>
          </a:prstGeom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373720"/>
            <a:ext cx="6408720" cy="0"/>
          </a:xfrm>
          <a:prstGeom prst="line">
            <a:avLst/>
          </a:prstGeom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5589720"/>
            <a:ext cx="6408720" cy="0"/>
          </a:xfrm>
          <a:prstGeom prst="line">
            <a:avLst/>
          </a:prstGeom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5877000"/>
            <a:ext cx="1728720" cy="0"/>
          </a:xfrm>
          <a:prstGeom prst="line">
            <a:avLst/>
          </a:prstGeom>
          <a:ln w="1260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93EF-E945-4D06-96E1-066B352DC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REED-SOLOMON hibajavító kódolás(3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692280"/>
          <a:ext cx="451152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692280"/>
                    <a:ext cx="45115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692280"/>
          <a:ext cx="4500720" cy="365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280"/>
                    <a:ext cx="45007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5229360"/>
          <a:ext cx="457200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229360"/>
                    <a:ext cx="457200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65D7-CADA-4F74-944F-8D8B0BD8A0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REED-SOLOMON hibajavító kódolás(4)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Lényegi tulajdonságok: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341360"/>
          <a:ext cx="905184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05184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12CB-2C75-45C7-ABB9-16464648A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8:19:20Z</dcterms:created>
  <dc:creator>Honfy József, egyetemi adjunktus</dc:creator>
  <dc:description/>
  <dc:language>en-US</dc:language>
  <cp:lastModifiedBy>Vári Péter</cp:lastModifiedBy>
  <dcterms:modified xsi:type="dcterms:W3CDTF">2008-11-05T12:42:04Z</dcterms:modified>
  <cp:revision>12</cp:revision>
  <dc:subject/>
  <dc:title>HIBAJAVÍTÓ ELJÁRÁSOK</dc:title>
</cp:coreProperties>
</file>